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4970F-F9A1-417B-B9D2-72A59CA83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B665-A607-4469-8A80-52F1E6469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6CEA-BA9C-46F1-A78D-2B25F1A10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FBF6C-2C3F-4F3B-949D-9DEB470F3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257C-04EA-42F5-AA73-4D647660F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0515-7A86-4A10-B823-646FB09B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0816-7C56-431B-98AD-271C160C1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E8BA-139F-47A5-83C7-FE9C6B88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4C91-ABD8-4357-86E6-AFC611C33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E18C-9B9F-483F-9ABD-7276C8F7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72DA-0832-4918-9FE6-A84E2DA4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3D35-0C85-4B83-93AA-2E96D4407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7B15-CC50-4F0A-B9C7-B3958EFD2F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152280" y="26640"/>
            <a:ext cx="8839440" cy="5425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of Grid Connection Policy for Micro/Mini Hydro Plants in Nep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Calibri"/>
              </a:rPr>
              <a:t>Alternative Energy Promotion Center (AEP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Renewable Energy for Rural Livelihood (RE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Arial"/>
              </a:rPr>
              <a:t>May 201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 name="Picture 12" descr=""/>
          <p:cNvPicPr/>
          <p:nvPr/>
        </p:nvPicPr>
        <p:blipFill>
          <a:blip r:embed="rId1"/>
          <a:stretch/>
        </p:blipFill>
        <p:spPr>
          <a:xfrm>
            <a:off x="3886200" y="76320"/>
            <a:ext cx="138600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
        <p:nvSpPr>
          <p:cNvPr id="61" name="TextBox 4"/>
          <p:cNvSpPr/>
          <p:nvPr/>
        </p:nvSpPr>
        <p:spPr>
          <a:xfrm>
            <a:off x="5350680" y="685800"/>
            <a:ext cx="376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lvl="1"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ea typeface="Calibri"/>
              </a:rPr>
              <a:t>Need for Grid Connection of MHP</a:t>
            </a:r>
            <a:endParaRPr b="0" lang="en-US" sz="2800" spc="-1" strike="noStrike">
              <a:solidFill>
                <a:srgbClr val="000000"/>
              </a:solidFill>
              <a:latin typeface="Arial"/>
            </a:endParaRPr>
          </a:p>
        </p:txBody>
      </p:sp>
      <p:sp>
        <p:nvSpPr>
          <p:cNvPr id="44" name="TextBox 4"/>
          <p:cNvSpPr/>
          <p:nvPr/>
        </p:nvSpPr>
        <p:spPr>
          <a:xfrm>
            <a:off x="2433960" y="1828800"/>
            <a:ext cx="3364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Micro Hyd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End-use appl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End-use appl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lum contrast="18000"/>
          </a:blip>
          <a:stretch/>
        </p:blipFill>
        <p:spPr>
          <a:xfrm>
            <a:off x="380880" y="762120"/>
            <a:ext cx="8153640" cy="576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0"/>
            <a:ext cx="83822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Calibri"/>
              </a:rPr>
              <a:t>Need for Grid Connection of MHP contd..</a:t>
            </a:r>
            <a:br>
              <a:rPr sz="2800"/>
            </a:br>
            <a:endParaRPr b="0" lang="en-US" sz="2800" spc="-1" strike="noStrike">
              <a:solidFill>
                <a:srgbClr val="000000"/>
              </a:solidFill>
              <a:latin typeface="Calibri"/>
            </a:endParaRPr>
          </a:p>
        </p:txBody>
      </p:sp>
      <p:sp>
        <p:nvSpPr>
          <p:cNvPr id="47" name=""/>
          <p:cNvSpPr txBox="1"/>
          <p:nvPr/>
        </p:nvSpPr>
        <p:spPr>
          <a:xfrm>
            <a:off x="380880" y="990360"/>
            <a:ext cx="8229600" cy="556236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PLF</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ural Electrification Master Plan- extending of grid line in the vicinity of MHP</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power quality of grid line by integrating Distributed Generation.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lated MHPs are struggling for financial sustainability.</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lot Interconnection Project</a:t>
            </a:r>
            <a:endParaRPr b="0" lang="en-US" sz="4400" spc="-1" strike="noStrike">
              <a:solidFill>
                <a:srgbClr val="000000"/>
              </a:solidFill>
              <a:latin typeface="Calibri"/>
            </a:endParaRPr>
          </a:p>
        </p:txBody>
      </p:sp>
      <p:sp>
        <p:nvSpPr>
          <p:cNvPr id="49" name=""/>
          <p:cNvSpPr txBox="1"/>
          <p:nvPr/>
        </p:nvSpPr>
        <p:spPr>
          <a:xfrm>
            <a:off x="228600" y="1523880"/>
            <a:ext cx="8686800" cy="51818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N has announced national competitive bidding in December 2016 for interconnection of MHP to national grid for two projects namely (i) Syaurebhumi MHP of 23kW in Nuwakot District and (ii) Leguwa Khola MHP of 40kW in Dhankutta District. </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2 bidder has applied who has proposed ELC which would be compatible for grid interconnection.</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west bidder whose has proposed approx USD 28,000 for interconnection of one MHP has been awarded contract in January 2017.</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oint team including contractor, AEPC and Nepal Electricity Authority officials and interconnection expert had conducted field visit in March 2017.</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lot Interconnection Project contd..</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of May 2017, the interconnection equipments are delivered at the site for both pilot projects.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expected that it will be commissioned in June 2017.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for commercial operation may be started from August 201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5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Breakthrough for grid connection of MHP less than 100kW</a:t>
            </a:r>
            <a:endParaRPr b="0" lang="en-US" sz="2400" spc="-1" strike="noStrike">
              <a:solidFill>
                <a:srgbClr val="000000"/>
              </a:solidFill>
              <a:latin typeface="Calibri"/>
            </a:endParaRPr>
          </a:p>
        </p:txBody>
      </p:sp>
      <p:sp>
        <p:nvSpPr>
          <p:cNvPr id="53" name=""/>
          <p:cNvSpPr txBox="1"/>
          <p:nvPr/>
        </p:nvSpPr>
        <p:spPr>
          <a:xfrm>
            <a:off x="456840" y="1142640"/>
            <a:ext cx="8458200" cy="5334120"/>
          </a:xfrm>
          <a:prstGeom prst="rect">
            <a:avLst/>
          </a:prstGeom>
          <a:noFill/>
          <a:ln w="0">
            <a:noFill/>
          </a:ln>
        </p:spPr>
        <p:txBody>
          <a:bodyPr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 and AEPC jointly prepare the technical standard for grid connection of MHP which comply to grid code.</a:t>
            </a:r>
            <a:endParaRPr b="0" lang="en-US" sz="20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a:t>
            </a:r>
            <a:r>
              <a:rPr b="0" lang="en-US" sz="2000" spc="-1" strike="noStrike" baseline="30000">
                <a:solidFill>
                  <a:srgbClr val="000000"/>
                </a:solidFill>
                <a:latin typeface="Calibri"/>
              </a:rPr>
              <a:t>th</a:t>
            </a:r>
            <a:r>
              <a:rPr b="0" lang="en-US" sz="2000" spc="-1" strike="noStrike">
                <a:solidFill>
                  <a:srgbClr val="000000"/>
                </a:solidFill>
                <a:latin typeface="Calibri"/>
              </a:rPr>
              <a:t> July 2014, NEA board has provided approval for grid connection of MHP.</a:t>
            </a:r>
            <a:endParaRPr b="0" lang="en-US" sz="20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or Pay /Give or pay clauses shall not be applied to both parties.</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mission line loss occurred if any, due to project/Mini grid in NEA system shall not be allocated because of small amount of power injected.</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Closure may not be applied in PPA  </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study wont be required below 500kW</a:t>
            </a:r>
            <a:endParaRPr b="0" lang="en-US" sz="1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PPA of 23kW Syaurebhumi  MHP has been executed on 1</a:t>
            </a:r>
            <a:r>
              <a:rPr b="0" lang="en-US" sz="2000" spc="-1" strike="noStrike" baseline="30000">
                <a:solidFill>
                  <a:srgbClr val="000000"/>
                </a:solidFill>
                <a:latin typeface="Calibri"/>
              </a:rPr>
              <a:t>st</a:t>
            </a:r>
            <a:r>
              <a:rPr b="0" lang="en-US" sz="2000" spc="-1" strike="noStrike">
                <a:solidFill>
                  <a:srgbClr val="000000"/>
                </a:solidFill>
                <a:latin typeface="Calibri"/>
              </a:rPr>
              <a:t> March 2015.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457200"/>
            <a:ext cx="82296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PA Terms and Conditions</a:t>
            </a:r>
            <a:endParaRPr b="0" lang="en-US" sz="3200" spc="-1" strike="noStrike">
              <a:solidFill>
                <a:srgbClr val="000000"/>
              </a:solidFill>
              <a:latin typeface="Calibri"/>
            </a:endParaRPr>
          </a:p>
        </p:txBody>
      </p:sp>
      <p:sp>
        <p:nvSpPr>
          <p:cNvPr id="55" name=""/>
          <p:cNvSpPr txBox="1"/>
          <p:nvPr/>
        </p:nvSpPr>
        <p:spPr>
          <a:xfrm>
            <a:off x="304920" y="1219320"/>
            <a:ext cx="8534160" cy="5410080"/>
          </a:xfrm>
          <a:prstGeom prst="rect">
            <a:avLst/>
          </a:prstGeom>
          <a:noFill/>
          <a:ln w="0">
            <a:noFill/>
          </a:ln>
        </p:spPr>
        <p:txBody>
          <a:bodyPr anchor="t">
            <a:normAutofit fontScale="98000"/>
          </a:bodyPr>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uration of PPA for grid connection of MHP is 30 year from the date of commercial operation.</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 of grid connection of MHPs has to be borne by MHP themselves.</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PA rate for &lt;100kW MHP is 8 US cents/kWh for 4 month (dry period) and 4.57 US cents/kWh for 8 months (wet season)</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ual Price escalation is 3% up to 5 years.</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grid connection is accomplished before agreed commercial date of operation, utility can import energy from the developer as per requirement at the PPA rate quoted above. </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cess energy provided by MHP, 50% of  the PPA rate would be provided.</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lling is done every four month in bulk.</a:t>
            </a:r>
            <a:endParaRPr b="0" lang="en-US" sz="2000" spc="-1" strike="noStrike">
              <a:solidFill>
                <a:srgbClr val="000000"/>
              </a:solidFill>
              <a:latin typeface="Calibri"/>
            </a:endParaRPr>
          </a:p>
          <a:p>
            <a:pPr marL="335880" indent="-3358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ial Analysis of Grid Connection of MHP in Nepal</a:t>
            </a:r>
            <a:endParaRPr b="0" lang="en-US" sz="3600" spc="-1" strike="noStrike">
              <a:solidFill>
                <a:srgbClr val="000000"/>
              </a:solidFill>
              <a:latin typeface="Calibri"/>
            </a:endParaRPr>
          </a:p>
        </p:txBody>
      </p:sp>
      <p:graphicFrame>
        <p:nvGraphicFramePr>
          <p:cNvPr id="57" name=""/>
          <p:cNvGraphicFramePr/>
          <p:nvPr/>
        </p:nvGraphicFramePr>
        <p:xfrm>
          <a:off x="304920" y="1447920"/>
          <a:ext cx="8534160" cy="5181480"/>
        </p:xfrm>
        <a:graphic>
          <a:graphicData uri="http://schemas.openxmlformats.org/drawingml/2006/table">
            <a:tbl>
              <a:tblPr/>
              <a:tblGrid>
                <a:gridCol w="1106280"/>
                <a:gridCol w="1209600"/>
                <a:gridCol w="1346400"/>
                <a:gridCol w="1703520"/>
                <a:gridCol w="1330200"/>
                <a:gridCol w="717480"/>
                <a:gridCol w="1120680"/>
              </a:tblGrid>
              <a:tr h="1373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y of MHP</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imum interconnection distance in (Km)</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commended interconnection voltage (kV) </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ductor type</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of Interconnection (NRs.)</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RR</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PV</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7621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to 25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sel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67,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70%</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262,554.1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1760">
                <a:tc row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 to 50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sel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632,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10%</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930,108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bit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14,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5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482,108.2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03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 to 75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quirrel</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934,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06%</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6,923,662.3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21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 to 100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quirrel</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438,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513,216.4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142640"/>
            <a:ext cx="8229600" cy="5181480"/>
          </a:xfrm>
          <a:prstGeom prst="rect">
            <a:avLst/>
          </a:prstGeom>
          <a:noFill/>
          <a:ln w="0">
            <a:noFill/>
          </a:ln>
        </p:spPr>
        <p:txBody>
          <a:bodyPr anchor="t">
            <a:normAutofit/>
          </a:bodyPr>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chnical standard agreed by NEA is having very conservative protection which makes the cost of grid connection expensive.</a:t>
            </a:r>
            <a:endParaRPr b="0" lang="en-US" sz="1800" spc="-1" strike="noStrike">
              <a:solidFill>
                <a:srgbClr val="000000"/>
              </a:solidFill>
              <a:latin typeface="Calibri"/>
            </a:endParaRPr>
          </a:p>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ability of live grid (load shedding) for continuous connection of MHP is also a big problem </a:t>
            </a:r>
            <a:endParaRPr b="0" lang="en-US" sz="1800" spc="-1" strike="noStrike">
              <a:solidFill>
                <a:srgbClr val="000000"/>
              </a:solidFill>
              <a:latin typeface="Calibri"/>
            </a:endParaRPr>
          </a:p>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PA application process was originally designed for large schemes, its fees are very high, too high for most communities to afford.</a:t>
            </a:r>
            <a:endParaRPr b="0" lang="en-US" sz="1800" spc="-1" strike="noStrike">
              <a:solidFill>
                <a:srgbClr val="000000"/>
              </a:solidFill>
              <a:latin typeface="Calibri"/>
            </a:endParaRPr>
          </a:p>
          <a:p>
            <a:pPr lvl="2"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grid connection, there is no subsidy from government and MHP has to take loan from bank. </a:t>
            </a:r>
            <a:endParaRPr b="0" lang="en-US" sz="1800" spc="-1" strike="noStrike">
              <a:solidFill>
                <a:srgbClr val="000000"/>
              </a:solidFill>
              <a:latin typeface="Calibri"/>
            </a:endParaRPr>
          </a:p>
          <a:p>
            <a:pPr lvl="2"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takes more than 3 years to repay the loan which may not be financially attractive for the community based MHP for grid connection</a:t>
            </a:r>
            <a:endParaRPr b="0" lang="en-US" sz="18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 name="PlaceHolder 1"/>
          <p:cNvSpPr>
            <a:spLocks noGrp="1"/>
          </p:cNvSpPr>
          <p:nvPr>
            <p:ph type="title"/>
          </p:nvPr>
        </p:nvSpPr>
        <p:spPr>
          <a:xfrm>
            <a:off x="457200" y="30492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 for grid connection of MHP in Nep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1:00:32Z</dcterms:created>
  <dc:creator>bhshakya</dc:creator>
  <dc:description/>
  <dc:language>en-US</dc:language>
  <cp:lastModifiedBy>Windows User</cp:lastModifiedBy>
  <dcterms:modified xsi:type="dcterms:W3CDTF">2017-05-28T05:44:46Z</dcterms:modified>
  <cp:revision>121</cp:revision>
  <dc:subject/>
  <dc:title>Slide 1</dc:title>
</cp:coreProperties>
</file>